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E0D8-FE13-444A-B335-0270927D2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1C9-E243-4C9D-895F-65C82067A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B8CC-D085-4403-8999-B5A7332F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FD6C-0257-4B17-A230-817C48A75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70C9-9F99-4949-A3B6-8626EF46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4FA-CFC5-4565-AC52-67118F4E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3278-E227-4F09-93E9-C33300CD6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2C5-6BEA-4B5A-BEEA-CDC2AD22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9FA-5889-4F3F-95EF-65B10E70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83E-F24C-44B2-A92F-CD6D6FCA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D38-1048-424D-AB05-57523E91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F594-9DE2-45ED-9FFF-B84503F9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51DE-D15B-4824-80FF-590EBB40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412-ADE9-438A-8E86-3CCBF437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311E-5EDF-4E00-8B41-B403E5AE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76E5-AE3A-440F-B4F7-3FA86D2E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EDE8-B07C-45E9-8A14-D769BDF6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67AB-9898-4D08-B344-95721A8A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FD4-59C9-4C2B-AE64-1CE74730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8962-DE7E-45FF-B394-3BA0C28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7476-E425-4216-823E-67ABFB8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B629-5AB2-4378-9370-0F14EFDB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D3F1-8F26-4E54-A607-3682FD1D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ABCD-68C9-4659-91DD-75B4967A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1B3C-ECCE-4108-8DAA-87AC90E6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8394-E4BA-40AF-AF9F-2E7A6AAB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CCB9-D644-4298-B4C4-01E8171B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F3D0-F73C-4B8D-AE75-5A99CD5E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5517-DAB1-455D-99EE-7F31146A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EAC-BEA3-4539-B814-0C8EDEE3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F086-8743-479A-9E19-75C8A622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719A-D9A5-4BBD-B14F-57A7AA8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401F6-D140-4B94-B665-8126C3E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36F9-A818-4407-BE28-495C1064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EA49-D072-40F1-9BFC-EAA414B6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2BFA-098C-4FC8-923C-E8669695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99FA-C7CE-47CB-BCD4-F5597C88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9549A-E599-466E-98FD-54380006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DC6C2-CFF5-483E-9B07-406075E2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23462-BABB-4183-9F5B-02A9138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7B1-2474-481E-BEC8-6C473A0E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83CB9-40EF-4C8E-8B3D-3BFD8FDC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716C0-870E-4E85-88C4-BB015DD4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FEA07-6B10-43A4-B683-DC3D76E8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96827-4F5D-4189-B1C5-C0A9D0A9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9953E-A94A-4FC8-97A7-A9FF30C1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0A94B-0E5D-4C5D-B5D0-DF462DF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31359-625A-4F09-A168-0666C4A0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BF7BC5-49EE-41A9-A1D9-45C56B37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0A390-9DE2-4D0F-8BEA-1D33815D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D923-0BC4-49A4-A028-93A085DA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C76-418D-4E9B-84DE-9D3FE992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3203-4393-4774-B48B-3B004D22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6444-8893-441C-A0B0-6D34B30A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9CCB-C468-4D4E-989A-1832A28A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A5F97-1C39-43DA-9A3A-8ADCF4F9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EEB1-60EE-48B8-A37E-B3240C21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370D-7F65-49DB-86D4-3D56A42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62C47-1972-49B4-B822-CDC90D7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670CF-6A5F-4ABF-BC43-68E77E1F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56E1-AE05-4B28-BDD1-16DF69E2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05CE0-695E-4417-B21A-AE56FEB2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3BA-B073-4EB2-BB5F-26712EEA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B293-EC23-4C3E-A6B1-84A6DB16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6D442-8246-4FF8-A841-37751E15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27FB5-74BC-4DC5-A333-1489B82B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A978C-9326-4BE9-BFCE-A53D104B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C17BE-BDD9-4EFA-B9F7-9F08DAD3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6140F-4602-4D09-9823-2E4F38EE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0FFD3-9725-4854-89A9-6A88B147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C73F6-A208-421A-8C2F-D372566C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BFAB2-D371-4F62-A7E3-FF9FC20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89D1B-3DE0-47C8-87CA-DC5ED0BB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711-A7F4-4F87-80CD-D6137A4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63973-3323-48C7-BDB9-1BC76186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FDDF4-0D8F-48BB-A3A7-2C7D914A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410F3-6999-4B71-8218-0BD4CAFE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1027F-7F43-4999-964C-7B0D66F0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85E68-65D3-4733-8C1D-D8B47752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42129-DD1C-4E31-A989-7348B164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D8D40-57C6-462B-A351-B601B6EC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0D539-76DF-4825-8AA1-A667C3EA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93CCF-38CB-471E-B488-D1630189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BFFC4-BB82-48FA-806A-F6D2E21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6A5-6F32-4CD4-BC67-2924EDE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9D15E-8BA4-4934-A8D4-52CD3F7D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E47FC-3088-465B-81F9-6B4FB840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EC0A0-1D06-4114-9EA0-2C3B02BC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89065-B0B7-4EAE-B32F-9D7B9AAC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21D21-BB4A-4365-A5E0-7D038245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BA005-BD52-4B32-B764-E6D567FC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E407A4-F6C5-4974-B39F-782ACB2F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0C9F3-F2F4-4E3B-871B-642EBD71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A2CC8-F0B0-4B13-9760-7EAA0A2C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2F887B-28AD-4572-AC81-A29E0399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CB0-C964-46AB-8760-94A8E79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855E5-4008-4E86-BBC7-517B2A70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FBDDB-FD46-4694-9599-DFB834E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FD8E8-BDBD-4003-AD98-1C4992F6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04A566-F8BF-4F41-8209-D2EA3AEF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C7F44C-BA63-4415-B763-8848B7A3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4DAD08-2E4C-498F-9490-4F24011E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281193-3B8D-4E05-AAE4-1CDBB42B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71D8-1C49-4014-8725-5FDA7A5E0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C223-0E61-4CA0-AB9F-FE49777210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D66C-518C-4D17-9867-46E674CBF1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DA52-E517-4950-BB67-C0D00D65E8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1E94-76F7-4D47-ADC6-1245637920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D3F-3A34-4BC4-9337-F0856FB2A8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CAEC-8FAC-4B82-9BC1-D4760A9F10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E16C-719F-4216-9A4D-291CF40A1E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NIOR 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ots List #11   (5 Word Part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CR, MIC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mal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million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h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biolog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cos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pho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scop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crofil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4" descr="ohm.jpg"/>
          <p:cNvPicPr/>
          <p:nvPr/>
        </p:nvPicPr>
        <p:blipFill>
          <a:blip r:embed="rId1"/>
          <a:stretch/>
        </p:blipFill>
        <p:spPr>
          <a:xfrm>
            <a:off x="762120" y="50292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microbiology.jpg"/>
          <p:cNvPicPr/>
          <p:nvPr/>
        </p:nvPicPr>
        <p:blipFill>
          <a:blip r:embed="rId2"/>
          <a:stretch/>
        </p:blipFill>
        <p:spPr>
          <a:xfrm>
            <a:off x="685800" y="30481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microbiologyy.jpg"/>
          <p:cNvPicPr/>
          <p:nvPr/>
        </p:nvPicPr>
        <p:blipFill>
          <a:blip r:embed="rId3"/>
          <a:stretch/>
        </p:blipFill>
        <p:spPr>
          <a:xfrm>
            <a:off x="3581280" y="228600"/>
            <a:ext cx="1600200" cy="1190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microfilm.jpg"/>
          <p:cNvPicPr/>
          <p:nvPr/>
        </p:nvPicPr>
        <p:blipFill>
          <a:blip r:embed="rId4"/>
          <a:stretch/>
        </p:blipFill>
        <p:spPr>
          <a:xfrm>
            <a:off x="6172200" y="50292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micrometer.jpg"/>
          <p:cNvPicPr/>
          <p:nvPr/>
        </p:nvPicPr>
        <p:blipFill>
          <a:blip r:embed="rId5"/>
          <a:stretch/>
        </p:blipFill>
        <p:spPr>
          <a:xfrm>
            <a:off x="3505320" y="480060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microphone.jpg"/>
          <p:cNvPicPr/>
          <p:nvPr/>
        </p:nvPicPr>
        <p:blipFill>
          <a:blip r:embed="rId6"/>
          <a:stretch/>
        </p:blipFill>
        <p:spPr>
          <a:xfrm>
            <a:off x="3124080" y="3124080"/>
            <a:ext cx="1457280" cy="1371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microscope.jpg"/>
          <p:cNvPicPr/>
          <p:nvPr/>
        </p:nvPicPr>
        <p:blipFill>
          <a:blip r:embed="rId7"/>
          <a:stretch/>
        </p:blipFill>
        <p:spPr>
          <a:xfrm>
            <a:off x="7010280" y="228600"/>
            <a:ext cx="153360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LL, MILLI, MI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thousan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thousandth par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illennium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nnium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year or years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li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illiped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4" descr="millienium.jpg"/>
          <p:cNvPicPr/>
          <p:nvPr/>
        </p:nvPicPr>
        <p:blipFill>
          <a:blip r:embed="rId1"/>
          <a:stretch/>
        </p:blipFill>
        <p:spPr>
          <a:xfrm>
            <a:off x="838080" y="2971800"/>
            <a:ext cx="1676520" cy="1733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milligram.jpg"/>
          <p:cNvPicPr/>
          <p:nvPr/>
        </p:nvPicPr>
        <p:blipFill>
          <a:blip r:embed="rId2"/>
          <a:stretch/>
        </p:blipFill>
        <p:spPr>
          <a:xfrm>
            <a:off x="4419720" y="5334120"/>
            <a:ext cx="2743200" cy="129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million.jpg"/>
          <p:cNvPicPr/>
          <p:nvPr/>
        </p:nvPicPr>
        <p:blipFill>
          <a:blip r:embed="rId3"/>
          <a:stretch/>
        </p:blipFill>
        <p:spPr>
          <a:xfrm>
            <a:off x="762120" y="4952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millipede.jpg"/>
          <p:cNvPicPr/>
          <p:nvPr/>
        </p:nvPicPr>
        <p:blipFill>
          <a:blip r:embed="rId4"/>
          <a:stretch/>
        </p:blipFill>
        <p:spPr>
          <a:xfrm>
            <a:off x="3200400" y="32004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millipedee.jpg"/>
          <p:cNvPicPr/>
          <p:nvPr/>
        </p:nvPicPr>
        <p:blipFill>
          <a:blip r:embed="rId5"/>
          <a:stretch/>
        </p:blipFill>
        <p:spPr>
          <a:xfrm>
            <a:off x="6553080" y="228600"/>
            <a:ext cx="184788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N, MO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l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ar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cle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ocul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he eye or eyes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poly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poly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ny; much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pla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gam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logu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otheis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n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state; quality; condition of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4" descr="monarch.jpg"/>
          <p:cNvPicPr/>
          <p:nvPr/>
        </p:nvPicPr>
        <p:blipFill>
          <a:blip r:embed="rId1"/>
          <a:stretch/>
        </p:blipFill>
        <p:spPr>
          <a:xfrm>
            <a:off x="3200400" y="3352680"/>
            <a:ext cx="1514520" cy="1447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monocle.jpg"/>
          <p:cNvPicPr/>
          <p:nvPr/>
        </p:nvPicPr>
        <p:blipFill>
          <a:blip r:embed="rId2"/>
          <a:stretch/>
        </p:blipFill>
        <p:spPr>
          <a:xfrm>
            <a:off x="7315200" y="228600"/>
            <a:ext cx="119052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monoclee.jpg"/>
          <p:cNvPicPr/>
          <p:nvPr/>
        </p:nvPicPr>
        <p:blipFill>
          <a:blip r:embed="rId3"/>
          <a:stretch/>
        </p:blipFill>
        <p:spPr>
          <a:xfrm>
            <a:off x="3657600" y="30492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monologue.jpg"/>
          <p:cNvPicPr/>
          <p:nvPr/>
        </p:nvPicPr>
        <p:blipFill>
          <a:blip r:embed="rId4"/>
          <a:stretch/>
        </p:blipFill>
        <p:spPr>
          <a:xfrm>
            <a:off x="388620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monoplane.jpg"/>
          <p:cNvPicPr/>
          <p:nvPr/>
        </p:nvPicPr>
        <p:blipFill>
          <a:blip r:embed="rId5"/>
          <a:stretch/>
        </p:blipFill>
        <p:spPr>
          <a:xfrm>
            <a:off x="1143000" y="5562720"/>
            <a:ext cx="1257480" cy="876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monopoly.jpg"/>
          <p:cNvPicPr/>
          <p:nvPr/>
        </p:nvPicPr>
        <p:blipFill>
          <a:blip r:embed="rId6"/>
          <a:stretch/>
        </p:blipFill>
        <p:spPr>
          <a:xfrm>
            <a:off x="533520" y="3276720"/>
            <a:ext cx="191448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RT, MORT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a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o di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tua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mmort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stmorte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Picture 4" descr="mortal.jpg"/>
          <p:cNvPicPr/>
          <p:nvPr/>
        </p:nvPicPr>
        <p:blipFill>
          <a:blip r:embed="rId1"/>
          <a:stretch/>
        </p:blipFill>
        <p:spPr>
          <a:xfrm>
            <a:off x="1295280" y="335268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mortuary.jpg"/>
          <p:cNvPicPr/>
          <p:nvPr/>
        </p:nvPicPr>
        <p:blipFill>
          <a:blip r:embed="rId2"/>
          <a:stretch/>
        </p:blipFill>
        <p:spPr>
          <a:xfrm>
            <a:off x="4572000" y="44197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ULT, MULT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re th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Word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ocul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later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tude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ude-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rge; consisting of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p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ultip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6" name="Picture 4" descr="multipedd.jpg"/>
          <p:cNvPicPr/>
          <p:nvPr/>
        </p:nvPicPr>
        <p:blipFill>
          <a:blip r:embed="rId1"/>
          <a:stretch/>
        </p:blipFill>
        <p:spPr>
          <a:xfrm>
            <a:off x="3048120" y="335268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multiped.jpg"/>
          <p:cNvPicPr/>
          <p:nvPr/>
        </p:nvPicPr>
        <p:blipFill>
          <a:blip r:embed="rId2"/>
          <a:stretch/>
        </p:blipFill>
        <p:spPr>
          <a:xfrm>
            <a:off x="5791320" y="5181480"/>
            <a:ext cx="2133360" cy="1447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multipeddd.jpg"/>
          <p:cNvPicPr/>
          <p:nvPr/>
        </p:nvPicPr>
        <p:blipFill>
          <a:blip r:embed="rId3"/>
          <a:stretch/>
        </p:blipFill>
        <p:spPr>
          <a:xfrm>
            <a:off x="990720" y="5181480"/>
            <a:ext cx="1733400" cy="1419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multiply.jpg"/>
          <p:cNvPicPr/>
          <p:nvPr/>
        </p:nvPicPr>
        <p:blipFill>
          <a:blip r:embed="rId4"/>
          <a:stretch/>
        </p:blipFill>
        <p:spPr>
          <a:xfrm>
            <a:off x="3581280" y="4876920"/>
            <a:ext cx="1514520" cy="1890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multocular.jpg"/>
          <p:cNvPicPr/>
          <p:nvPr/>
        </p:nvPicPr>
        <p:blipFill>
          <a:blip r:embed="rId5"/>
          <a:stretch/>
        </p:blipFill>
        <p:spPr>
          <a:xfrm>
            <a:off x="762120" y="3352680"/>
            <a:ext cx="2133360" cy="1685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multocularr.jpg"/>
          <p:cNvPicPr/>
          <p:nvPr/>
        </p:nvPicPr>
        <p:blipFill>
          <a:blip r:embed="rId6"/>
          <a:stretch/>
        </p:blipFill>
        <p:spPr>
          <a:xfrm>
            <a:off x="6629400" y="457200"/>
            <a:ext cx="158112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7:47:44Z</dcterms:created>
  <dc:creator>James Mitchell</dc:creator>
  <dc:description/>
  <dc:language>en-US</dc:language>
  <cp:lastModifiedBy>teacher</cp:lastModifiedBy>
  <dcterms:modified xsi:type="dcterms:W3CDTF">2009-03-23T17:21:41Z</dcterms:modified>
  <cp:revision>30</cp:revision>
  <dc:subject/>
  <dc:title>Roots List #1</dc:title>
</cp:coreProperties>
</file>